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B01-5B82-48A9-9714-51A72368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04D-33AF-4261-9643-8C14E44F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C12-03B7-4FC3-A250-14189B96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7CF-0596-4FB5-9DE0-E29AB6D6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2155-9BCC-4C6A-B9BE-70DE6206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81E0-0771-4D01-A2D4-494D75ED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D9C9-6613-407C-B0DD-7C9BA7BC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2E4A-BE57-4661-B5E0-AB5BFBAE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5857-9D4A-4082-81CB-DF68D4C4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DD8F-3FED-46FD-BEB4-C0F0BBFE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4218-DB6A-4FCB-A511-10DDBAC1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F75-7CEF-41AF-918C-6056E364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9035-FB88-43D1-B1DD-0FD1BEBA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4C89-7E6F-4D90-ACDF-B62101CD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91BC-A0CE-4BFB-8149-3F3908FB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FA98-BCF7-473A-8609-6782323A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D79D-B56E-4602-80A3-52B7F4CA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C74-0773-43F3-B065-0797A012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C7D-DA9F-4C99-A2D1-52B0C365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88D-A19A-4B84-BFF4-D91DA693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684-9F16-40E5-9D2B-7FB294CD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86C-E754-47A3-BB26-36678034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4EB-97FF-493C-9155-6FE98923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393-6A28-47B9-83CB-9C2DE3D0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Studie o možnostech využití Internetu pro prezentaci </a:t>
            </a:r>
            <a:br>
              <a:rPr sz="4400"/>
            </a:b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hl.m. Prah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abriela Hanzlová, Martin Přikr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etr Kvasnička, Matěj Pr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íl stud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á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ůvody výběr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vro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erlin, Vídeň, Helsinky, Kodaň, Londýn, Paříž, Lyon, Lisabon, Řím, Stockholm, Osl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pojené stá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oskytované služb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formace pro obyvatele města, turisty, podnikatele, studenty,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 vyhledáva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kazy na nejrůznější institu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jištěné nedostat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Čeho se vyvarov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ejednotnost strán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unkčnost služe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7:47:05Z</dcterms:created>
  <dc:creator>Učebny</dc:creator>
  <dc:description/>
  <dc:language>en-US</dc:language>
  <cp:lastModifiedBy>Martin Prikryl</cp:lastModifiedBy>
  <dcterms:modified xsi:type="dcterms:W3CDTF">2000-11-03T11:43:59Z</dcterms:modified>
  <cp:revision>6</cp:revision>
  <dc:subject/>
  <dc:title>Studie o možnostech využití Internetu pro prezentaci hl.m. Prahy</dc:title>
</cp:coreProperties>
</file>